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87C-6990-4DB7-9982-21D80C66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88F-D2B7-4DFA-88C5-102A11B6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330-74E6-445E-B6B5-24AE15AB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915-7907-4139-8873-F6567428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698B-88A6-44B7-9555-339AC04F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97C5-479E-4B62-ADB1-1795D21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EF8-5784-44A9-B268-6EF1ED0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7348-FFAF-4D40-B13B-1F3C5E96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94D-248E-4805-93E7-1D6A89F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BD54-E15E-4949-BEEC-CA494ACA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228-6939-4B67-BA36-11FD532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B69-E4BB-41AF-8DA8-73465A11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843A-F2B8-4CD5-96B1-AD45FF2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A9C-01DA-46B0-AC6A-E309D7A9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63B-822A-42D9-A853-93A4F72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5D5F-D064-4002-9AE6-486908A0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E6F-9952-49EE-8B0F-E50BB498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FE1B-7A64-4E0C-A1EE-CCF5A3CC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4DC5-2CFE-4700-AC3C-0F52118D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15B9-5F22-42E4-9D7A-CA23A1D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3AB3-DA70-4504-A311-E4D5D9B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C724-EE19-46FA-AEC3-3F9DCE71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875-C78E-4B7F-9A07-FEBFB755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E0D2-4F4B-4A17-836A-ED2D0C9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54BD-EDB0-41E1-8388-07EA4F3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B2B7-2DBA-4DE1-B9FB-CDEA40C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C700-0379-4BCE-944A-DDE5657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3D31-37B2-4F84-A003-EA150A0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1AF8-35DE-4F44-964E-EC8C1BA2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3C26-A699-4AD6-BA87-BEF8C77A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592D-25E1-4EC8-B50F-64D5C86F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B2CE7-E216-4097-963C-E562062C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4943-3967-41BE-A67C-183A3E5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660-9964-442C-9983-CF4296A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AD54-3079-43C2-943F-05358AA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ADEA-568D-4C89-86DE-28752E3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6C7B-8A74-4A4E-9269-F4BA5B2C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3024-E21C-42ED-9BA9-F2DF798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653B-0644-4919-8CC2-8F3E98C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EB1D-4293-436D-9D22-BE1216D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4375-1A08-447A-A445-8471359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5CF0-B54F-4EEC-B865-D74855E7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32EB-19A8-449B-8B3F-ED0BFC5F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35C9-C06E-445B-944E-E339F7B4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DE1-72EB-4F94-BDA6-5BF225A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BB01-041F-441B-BDFC-4FCF3E2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3D87-B949-4147-8B0B-34AAB378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C371-D8D8-4510-9B78-2E6EF479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83C5-8292-4205-8ED2-40A479C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5446-736D-4CB8-B7FF-1AD0E23B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2608C-E74D-4708-8AD6-4B70245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F866-A204-4A5F-A480-087B328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A491-8E58-42AB-AB9C-A469C19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0769-F768-414C-8D37-2D53CADF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94DA-4BAE-4B4F-B66C-D301DD29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679-9C46-44E3-B3B3-A86851D8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DE92-4BE1-4683-B883-A41AE883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E9F-B895-4204-BA4C-10A10F2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9A2-B2A4-4272-BD4E-6913175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9D6-267A-448B-9B75-F094B5AF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A5586-DD9C-4EA2-9F11-316101F70795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6D58D-8FCD-4D59-B93C-C51DE6344C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F6C8A-F2C8-46AA-B6BC-ED14E834F214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F38B9-9A15-440B-B833-2D8169475DB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981D8-6AFF-4BC5-A20D-11D9285B9232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5B29-CD99-48E3-9F6A-3D6507FC2F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8E3DF-DAE1-42A5-B174-FE6A9DD8FC17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CFBD3-9F12-401C-9C5E-EFBE4FA27AD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58AA8-68B3-44FC-99AF-682AA8BCB967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4DC4D-288E-417F-BFE5-EDE94288CCC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old War: Key Event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Muskies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ld War Key Ev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e will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s 5 and 6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 War Key Events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significance of events leading up to the Cold W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Marshall Plan, Truman Doct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8:56:53Z</dcterms:created>
  <dc:creator>Craig Rush</dc:creator>
  <dc:description/>
  <dc:language>en-US</dc:language>
  <cp:lastModifiedBy>Craig Rush</cp:lastModifiedBy>
  <dcterms:modified xsi:type="dcterms:W3CDTF">2012-02-13T08:58:58Z</dcterms:modified>
  <cp:revision>1</cp:revision>
  <dc:subject/>
  <dc:title>Cold War: Key Events</dc:title>
</cp:coreProperties>
</file>